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136-F284-4F26-B134-DA9EF2FC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2B3-3A6F-4DDC-A02A-BE180800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154-E14A-49B6-88A0-342C75D6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8F5-63BC-4DCD-BDA1-78B85036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97A-5010-4CE6-8BA8-E36A086A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59C-B7DD-4734-9C52-1A8F2E1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86C-BC6D-4C12-ACB7-6BB751E8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A9F-EB17-49C2-AE00-13AB7203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BD9-C524-4C64-8659-BB938D9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388-85F9-4598-9E8A-197F83D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92D-C444-4214-B981-7DA8D59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853-D5D3-4CFF-A0A4-72396B5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786B9-2486-46A7-B5BF-D184CCD2B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47640" y="104148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a</a:t>
            </a:r>
            <a:r>
              <a:rPr b="0" lang="et-EE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line tõekontseptsio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fred Tar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902-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Võr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on tõ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+ x + 2 &gt; 5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4 + x – 3 &lt; 2    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salised tõ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&gt; 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&lt;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Üldine tõ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= (0..1) </a:t>
            </a:r>
            <a:r>
              <a:rPr b="0" lang="et-E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(x &gt; 0) &amp; (x &l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ore te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õedefineerimine omandab täpse tähenduse ja seda on võimalik lahendada rangelt ainult nende keelte puhul, mille struktuur on täpselt paika pand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eele formaalne struk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iiritleme üheselt kõigi nende sõnade ja väljendite klassi, mida peetakse tähendusliku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äitame ära kõik sõnad, mida soovimekasutada defineerimata(primitiiv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e defineerimisreeglid(primitiividest uute sõnade loom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e reeglid väljendide klassis „lausete“ eristamiseks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ime tingimused, millelevastamisel võib keele lauset vä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oome välja aktsioomid(primitiives laused), mida otsustame väita tõestus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e tuletus ehk tõestusreeg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eduktiivsed ke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äreldus järeldub eeldus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ntinoom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 tean, et ma midagi ei 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tinoomiate tekkimise vältimiseks kasutame metake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36720" y="2556000"/>
            <a:ext cx="50403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takeel ja objektk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etak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eel, milles defineerime tõedefinitsio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eel, milles räägime objektkee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bjektk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eel, millele rakendame tõedefinitsio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ta- ja objektk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11280" y="2916360"/>
            <a:ext cx="6337440" cy="345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meta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4360" y="3635280"/>
            <a:ext cx="3024000" cy="2087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objekt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76360" y="5075280"/>
            <a:ext cx="1150920" cy="433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õuded metakeel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on tõene parajasti siis, ku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– lause ni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 – lause ise (</a:t>
            </a:r>
            <a:r>
              <a:rPr b="0" lang="et-EE" sz="2800" spc="-1" strike="noStrike">
                <a:solidFill>
                  <a:srgbClr val="ff3300"/>
                </a:solidFill>
                <a:latin typeface="Arial"/>
              </a:rPr>
              <a:t>tõlgituna metakeel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ff3300"/>
                </a:solidFill>
                <a:latin typeface="Arial"/>
              </a:rPr>
              <a:t>p peab olema tõlgitav metakee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ff3300"/>
                </a:solidFill>
                <a:latin typeface="Arial"/>
              </a:rPr>
              <a:t>P tähendus ei tohi muutuda tõlkimisel metakee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piisav tingimus tõedefinitsiooni konstrueerimis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3200" spc="-1" strike="noStrike">
                <a:solidFill>
                  <a:srgbClr val="ff3300"/>
                </a:solidFill>
                <a:latin typeface="Arial"/>
              </a:rPr>
              <a:t>Metakeel peab olema oluliselt rikkam kui objektk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etakeel ei tohi olla interpreteeritav objektke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etakeelde tohib tuua objektkeeles esinevaid semantilisi termineid vaid defineerimise 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uidas hinnata teaduslikke uuringuid, saavut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68360" y="248436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45080" y="2411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672000" y="4788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87640" y="2916360"/>
            <a:ext cx="1944720" cy="331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64000" y="3851280"/>
            <a:ext cx="1584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160360" y="2771640"/>
            <a:ext cx="3887640" cy="1152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huldava tõedefinistsiooni nõ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maalselt rahuld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teriaalselt adekvaa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2000" y="298764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Intellektuaalne rahuldus neile, kes uurimistöö tulemustest aru saavad ja kes nendest hooliva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daalsed loogik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odaalsed loogikad:  on voimalik &lt;&gt;, kindlasti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ot(   hillary clinton on usa presiden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=&gt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esiniku aatom sisaldab yhte prooto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&lt;&gt; hillary clinton on us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&lt;&gt; 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[]   p=&gt;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[]    vesiniku aatom sisaldab yhte prooto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uitsionistlik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õe kysimu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platooniline tõde on (klassikaline loogika, matemaa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oreem T on lah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yritakse toestada T   (vedas, leidsime toestuse Tto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yritatakse toestada no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platoonilist tõde ei ole (konstruktivis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toesus on meie oma konstruktsioon, ise loome, ehitades toestusi. Ttoest konstrueerida: alles siis saame oelda, et T on to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ei saa oelda, et suvalise P jaoks kehtib P v –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- - P)  = P       (( (A = &gt; B) =&gt; A) =&gt;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=&gt; A,  A &amp; B =&gt;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nstruktiivne matemaatika on laiem moiste kui intuitsionistlik loog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nstruktiivsus on mittedefineeri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uitsionismi na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 =&gt;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 =&gt; A :   lambda x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(A=&gt;A) =&gt; A :  lambda f .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 =&gt; ((A=&gt;B) =&gt; B) : lambda x . Lambda f. f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 &amp; str =&gt; str:  lambda x. secon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kpair(1,3)     first 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kalisel pred arvutusel on domeen ja funkts ning predikaatide interpretatsioo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 on intuitsion toestatav =&gt; T on klassikaliselt o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Lineaar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ending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llar lahed automaadi juu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ed dollari s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lid kas koka voi f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aad valitud a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llarit enam ei 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i kehti: 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B &amp;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&amp; (A=&gt;B)  =&gt; B                                 A &amp; A &amp; .... &amp; 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oned ressursid on piirama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!Vesi &amp; tablett =&gt; !vesi &amp; j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ohimotteline jao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o harilikud loogikad on sellise omaduse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i D =&gt; G, siis A &amp; D =&gt;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efault loogika, episteem. Loog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      :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B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ind(x)  :  ei saa jareldada -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pisteemili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skumis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admist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su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su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(12, “eksisteerib y . C(y)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a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tea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ograkeelte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ambda-arvutuse pohi (kombinatoorne loog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lumuutmise pohine seman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mantilise veebi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df ja xml namespaced, owl, jne 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lutl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baas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otsiaalsed kysimused (eristada asju yldkasutatavate nimedega, a la xml namespaced), kuidas asju uridega kode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Udused reeglisysteemid a la ekspertsystee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oogikapohised kaalutl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onkreetsed loogikake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 &amp; b =&gt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ksisteerib y . P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Yritused teha konkreetseid loogikake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2+3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aili paised ja include jne, kuidas t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s ja kuidas teha xml synt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õned kontseptsioon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se tõesus seisneb tema kooskõlas reaalsus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se on tõene, kui ta tähistab olemasolevat oluko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eed pole üheselt </a:t>
            </a:r>
            <a:r>
              <a:rPr b="0" lang="et-EE" sz="3200" spc="-1" strike="noStrike">
                <a:solidFill>
                  <a:srgbClr val="ff3300"/>
                </a:solidFill>
                <a:latin typeface="Arial"/>
              </a:rPr>
              <a:t>tõe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alne adekvaat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se „kass on must“ on tõene parajasti siis, kui kass on m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s on must“ - lause(ni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s on must – jah tõepoolest kass on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õedefinitsi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i tohi olla mitmemõtt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õisted, milles definitsiooni anname peavad olema defineeritud (peab kirjeldama keele formaalset struktuu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maalsed reeglid, mida def. peab järg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õemõiste on seotud konkreetse keel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kvivalets kujul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kvivalents (lause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 = 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= lausenimi(lause) // teeb lausest lause n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kvivalents_T = „x on tõene parajasti siis, kui p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turn ekvivalents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 on [tõene] parajasti siis, kui 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e ongi ekvivalents kuju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on siin lause 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 on lause 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[tõene] on siin kui otsi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õedefinistio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uidas me tahame kasutada terminit tõ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3200" spc="-1" strike="noStrike">
                <a:solidFill>
                  <a:srgbClr val="ff3300"/>
                </a:solidFill>
                <a:latin typeface="Arial"/>
              </a:rPr>
              <a:t>Nii, et kõiki ekvivalentse kujul T saab vä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 on [tõene] parajasti siis, kui 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ksik ekvivalents kujul T on osaline tõedefinitsi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s on must” parajasti siis, kui kass on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äike tõuseb 8:00” parajasti siis, kui päike tõuseb 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ikide lausete ekvivalentside konjunktsioon moodustab üldise tõedefinitsio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s on must” parajasti siis, kui kass on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&lt;viimane võimalik lause&gt;” on tõene parajasti siis, kui &lt;viimane võimalik lau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ktor</cp:lastModifiedBy>
  <dcterms:modified xsi:type="dcterms:W3CDTF">2006-10-31T13:40:21Z</dcterms:modified>
  <cp:revision>9</cp:revision>
  <dc:subject/>
  <dc:title>Slide 1</dc:title>
</cp:coreProperties>
</file>